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E37-269A-4493-9D48-AD12B3A3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79E-EF02-420E-AD10-F79150B1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687-C598-438C-ABBD-45EB6C5E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C58-5E6E-4F6C-B202-A5A86B7E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31F-BBF0-402F-A96A-4CF0E9C6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23C-9DCD-443A-8AEA-87618C3C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311-FBCC-42FD-B28A-C6ACC51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8F9-8C3C-44E3-9135-B836189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C5E-7500-44C8-B92D-3E4D6954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025-840E-4212-9C9D-32B2437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DA8-0E9C-4347-8755-D60F41D3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BE4-14F2-43C9-A794-7E44D815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60F6-BDD7-4AF5-93ED-49FD21A39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chantedlearning.com/subjects/mammals/badger/Badgerprintout.s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chantedlearning.com/usa/states/winscons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5181480"/>
            <a:ext cx="26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haniel 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143000"/>
            <a:ext cx="7772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gency FB"/>
              </a:rPr>
              <a:t>Wisconsin!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gency FB"/>
              <a:ea typeface="Agency FB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14f0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Capital is Madis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Population is 5363675! That’s a lot of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 entered the union in 1848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 was the 30</a:t>
            </a:r>
            <a:r>
              <a:rPr b="1" lang="en-US" sz="2400" spc="-1" strike="noStrike" baseline="30000">
                <a:solidFill>
                  <a:srgbClr val="00ff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to en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motto is short and sweet, “Forward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nickname is “The Badger State!” Must be tons of badg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state flower is the Wood Violet! Pret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state bird is the Robin! Chirp Chir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Its state song is “On Wisconsin! Laaaaaa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The name Wisconsin, is based by the Indian word Ouisconsin, meaning grassy place. Must be great to sled 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opyright © 1997 WriteLine. All Rights Reserved. Wood Violet"/>
          <p:cNvPicPr/>
          <p:nvPr/>
        </p:nvPicPr>
        <p:blipFill>
          <a:blip r:embed="rId1"/>
          <a:stretch/>
        </p:blipFill>
        <p:spPr>
          <a:xfrm>
            <a:off x="0" y="5715000"/>
            <a:ext cx="213372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86600" y="1523880"/>
            <a:ext cx="2057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83200000">
                                      <p:cBhvr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ush Script MT"/>
              </a:rPr>
              <a:t>Acknowledge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 Cards From America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ood 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11-2011 http://postcardsfrom.com/stamp/stamp-w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d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11-20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chantedlearning.com/usa/states/winscon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1757 0.00382 0.03167 0.00625 0.04855 C 0.00851 0.08485 0.01146 0.11583 0.02518 0.14774 C 0.02796 0.16855 0.03733 0.19005 0.04445 0.20925 C 0.04844 0.21988 0.04914 0.23468 0.05382 0.24508 C 0.05521 0.24832 0.06216 0.2541 0.06337 0.25549 C 0.08577 0.2541 0.10851 0.25248 0.13004 0.243 C 0.13681 0.24 0.14428 0.23722 0.1507 0.23237 C 0.18004 0.20971 0.16077 0.21572 0.18091 0.21133 C 0.19046 0.20485 0.19862 0.19745 0.20782 0.19005 C 0.21528 0.1778 0.21737 0.16948 0.22049 0.15422 C 0.2132 0.09803 0.21858 0.12971 0.20157 0.05896 C 0.19792 0.04393 0.1816 0.01433 0.17605 0.00208 C 0.16077 -0.03307 0.14688 -0.07191 0.13803 -0.11006 C 0.13594 -0.13734 0.13178 -0.17711 0.12379 -0.20301 C 0.12101 -0.21156 0.11789 -0.21966 0.1158 -0.22844 C 0.1132 -0.22336 0.11025 -0.21873 0.10782 -0.21365 C 0.10122 -0.19977 0.1073 -0.21064 0.10313 -0.19677 C 0.10191 -0.1933 0.09653 -0.18428 0.09514 -0.18197 C 0.0915 -0.16255 0.08612 -0.14497 0.08403 -0.12486 C 0.0849 -0.0726 0.08125 -0.04417 0.09358 -0.00208 C 0.0941 0.00208 0.0941 0.00647 0.09514 0.0104 C 0.10226 0.03699 0.11094 0.03283 0.13004 0.03792 C 0.20313 0.03537 0.27448 0.03144 0.34757 0.02728 C 0.37136 0.02451 0.39532 0.02173 0.41893 0.01688 C 0.43004 0.01433 0.45209 0.0104 0.45209 0.0104 C 0.49132 0.01341 0.5257 0.01549 0.56667 0.01688 C 0.58299 0.02404 0.57605 0.0215 0.58716 0.0252 C 0.59428 0.03098 0.59966 0.03722 0.60782 0.04 C 0.61598 0.04555 0.62448 0.05202 0.63334 0.05479 C 0.64775 0.06982 0.66198 0.0837 0.67292 0.10335 C 0.67587 0.11607 0.68369 0.12578 0.68889 0.13734 C 0.70157 0.16647 0.71511 0.19214 0.7316 0.21757 C 0.74063 0.23121 0.74671 0.24763 0.76025 0.25364 C 0.7691 0.23514 0.77327 0.21318 0.78091 0.19445 C 0.7875 0.17757 0.79653 0.16393 0.80157 0.14566 C 0.8066 0.12809 0.81025 0.11167 0.81737 0.09503 C 0.81893 0.08716 0.82014 0.0793 0.82223 0.07167 C 0.82431 0.06451 0.82813 0.0578 0.83004 0.05063 C 0.83334 0.03745 0.83803 0.0104 0.83803 0.0104 C 0.8415 -0.04255 0.83994 -0.02058 0.84271 -0.05526 C 0.84237 -0.06266 0.84653 -0.11052 0.82848 -0.11422 C 0.82014 -0.11584 0.81146 -0.11561 0.80296 -0.1163 C 0.77674 -0.12602 0.74948 -0.12948 0.72223 -0.13318 C 0.70157 -0.13156 0.68056 -0.13272 0.66007 -0.12694 C 0.63646 -0.12023 0.61112 -0.10266 0.59046 -0.08671 C 0.58021 -0.07099 0.56893 -0.05573 0.56025 -0.03815 C 0.5566 -0.01734 0.55087 0.00231 0.5474 0.02312 C 0.54132 0.06127 0.53803 0.10011 0.52848 0.13734 C 0.52605 0.1704 0.52483 0.1778 0.52848 0.21988 C 0.529 0.22659 0.53143 0.2326 0.53316 0.23884 C 0.55209 0.30497 0.60313 0.29294 0.64757 0.29595 C 0.68021 0.30451 0.68421 0.33849 0.70313 0.36786 C 0.71511 0.38659 0.72813 0.40531 0.74115 0.42266 C 0.74983 0.43398 0.76181 0.44023 0.77119 0.44994 C 0.78056 0.45942 0.78941 0.47075 0.8 0.47768 C 0.80851 0.49318 0.80278 0.48439 0.82049 0.50312 C 0.83507 0.51861 0.85139 0.54173 0.8698 0.54959 C 0.87257 0.56046 0.87344 0.56971 0.87448 0.58104 C 0.87257 0.60647 0.87448 0.5956 0.8698 0.61479 C 0.86893 0.61826 0.86667 0.62057 0.86494 0.62335 C 0.86146 0.6289 0.85851 0.63514 0.85382 0.63838 C 0.84653 0.643 0.83785 0.64393 0.83004 0.64647 C 0.81546 0.65156 0.804 0.65711 0.78889 0.65942 C 0.77778 0.66289 0.76719 0.67029 0.75539 0.67214 C 0.74862 0.67306 0.74185 0.67306 0.7349 0.67398 C 0.73108 0.67468 0.72744 0.6756 0.72379 0.67607 C 0.70174 0.68647 0.71754 0.68023 0.67448 0.68254 C 0.65157 0.68763 0.63004 0.69803 0.60782 0.70381 C 0.58855 0.70266 0.57171 0.70335 0.55382 0.69757 C 0.52969 0.68115 0.49775 0.6793 0.47136 0.67607 C 0.46233 0.67214 0.45365 0.66844 0.44428 0.66566 C 0.43212 0.65479 0.41737 0.65294 0.40313 0.65109 C 0.39046 0.64578 0.37761 0.63884 0.36494 0.63422 C 0.34462 0.62659 0.3231 0.62381 0.30296 0.61479 C 0.30157 0.61294 0.29966 0.61109 0.2981 0.60878 C 0.29705 0.60647 0.29636 0.60416 0.29497 0.60231 C 0.29219 0.59792 0.2856 0.58959 0.2856 0.58959 C 0.28178 0.5741 0.27848 0.56647 0.26823 0.55792 C 0.26164 0.54543 0.26875 0.55745 0.25851 0.54543 C 0.2474 0.53179 0.23698 0.5163 0.22987 0.49872 C 0.22605 0.47815 0.21702 0.47953 0.20625 0.46913 C 0.20296 0.46589 0.19983 0.46219 0.19671 0.45849 C 0.19237 0.4541 0.18299 0.43792 0.18091 0.43121 C 0.17848 0.42358 0.17813 0.41711 0.17448 0.40994 C 0.17066 0.37433 0.17414 0.40948 0.17136 0.34011 C 0.17014 0.31075 0.17084 0.30451 0.1507 0.29595 C 0.13959 0.29826 0.14445 0.2978 0.13646 0.2978 E">
                                      <p:cBhvr>
                                        <p:cTn id="76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1757 0.00382 0.03167 0.00625 0.04855 C 0.00851 0.08485 0.01146 0.11583 0.02518 0.14774 C 0.02796 0.16855 0.03733 0.19005 0.04445 0.20925 C 0.04844 0.21988 0.04914 0.23468 0.05382 0.24508 C 0.05521 0.24832 0.06216 0.2541 0.06337 0.25549 C 0.08577 0.2541 0.10851 0.25248 0.13004 0.243 C 0.13681 0.24 0.14428 0.23722 0.1507 0.23237 C 0.18004 0.20971 0.16077 0.21572 0.18091 0.21133 C 0.19046 0.20485 0.19862 0.19745 0.20782 0.19005 C 0.21528 0.1778 0.21737 0.16948 0.22049 0.15422 C 0.2132 0.09803 0.21858 0.12971 0.20157 0.05896 C 0.19792 0.04393 0.1816 0.01433 0.17605 0.00208 C 0.16077 -0.03307 0.14688 -0.07191 0.13803 -0.11006 C 0.13594 -0.13734 0.13178 -0.17711 0.12379 -0.20301 C 0.12101 -0.21156 0.11789 -0.21966 0.1158 -0.22844 C 0.1132 -0.22336 0.11025 -0.21873 0.10782 -0.21365 C 0.10122 -0.19977 0.1073 -0.21064 0.10313 -0.19677 C 0.10191 -0.1933 0.09653 -0.18428 0.09514 -0.18197 C 0.0915 -0.16255 0.08612 -0.14497 0.08403 -0.12486 C 0.0849 -0.0726 0.08125 -0.04417 0.09358 -0.00208 C 0.0941 0.00208 0.0941 0.00647 0.09514 0.0104 C 0.10226 0.03699 0.11094 0.03283 0.13004 0.03792 C 0.20313 0.03537 0.27448 0.03144 0.34757 0.02728 C 0.37136 0.02451 0.39532 0.02173 0.41893 0.01688 C 0.43004 0.01433 0.45209 0.0104 0.45209 0.0104 C 0.49132 0.01341 0.5257 0.01549 0.56667 0.01688 C 0.58299 0.02404 0.57605 0.0215 0.58716 0.0252 C 0.59428 0.03098 0.59966 0.03722 0.60782 0.04 C 0.61598 0.04555 0.62448 0.05202 0.63334 0.05479 C 0.64775 0.06982 0.66198 0.0837 0.67292 0.10335 C 0.67587 0.11607 0.68369 0.12578 0.68889 0.13734 C 0.70157 0.16647 0.71511 0.19214 0.7316 0.21757 C 0.74063 0.23121 0.74671 0.24763 0.76025 0.25364 C 0.7691 0.23514 0.77327 0.21318 0.78091 0.19445 C 0.7875 0.17757 0.79653 0.16393 0.80157 0.14566 C 0.8066 0.12809 0.81025 0.11167 0.81737 0.09503 C 0.81893 0.08716 0.82014 0.0793 0.82223 0.07167 C 0.82431 0.06451 0.82813 0.0578 0.83004 0.05063 C 0.83334 0.03745 0.83803 0.0104 0.83803 0.0104 C 0.8415 -0.04255 0.83994 -0.02058 0.84271 -0.05526 C 0.84237 -0.06266 0.84653 -0.11052 0.82848 -0.11422 C 0.82014 -0.11584 0.81146 -0.11561 0.80296 -0.1163 C 0.77674 -0.12602 0.74948 -0.12948 0.72223 -0.13318 C 0.70157 -0.13156 0.68056 -0.13272 0.66007 -0.12694 C 0.63646 -0.12023 0.61112 -0.10266 0.59046 -0.08671 C 0.58021 -0.07099 0.56893 -0.05573 0.56025 -0.03815 C 0.5566 -0.01734 0.55087 0.00231 0.5474 0.02312 C 0.54132 0.06127 0.53803 0.10011 0.52848 0.13734 C 0.52605 0.1704 0.52483 0.1778 0.52848 0.21988 C 0.529 0.22659 0.53143 0.2326 0.53316 0.23884 C 0.55209 0.30497 0.60313 0.29294 0.64757 0.29595 C 0.68021 0.30451 0.68421 0.33849 0.70313 0.36786 C 0.71511 0.38659 0.72813 0.40531 0.74115 0.42266 C 0.74983 0.43398 0.76181 0.44023 0.77119 0.44994 C 0.78056 0.45942 0.78941 0.47075 0.8 0.47768 C 0.80851 0.49318 0.80278 0.48439 0.82049 0.50312 C 0.83507 0.51861 0.85139 0.54173 0.8698 0.54959 C 0.87257 0.56046 0.87344 0.56971 0.87448 0.58104 C 0.87257 0.60647 0.87448 0.5956 0.8698 0.61479 C 0.86893 0.61826 0.86667 0.62057 0.86494 0.62335 C 0.86146 0.6289 0.85851 0.63514 0.85382 0.63838 C 0.84653 0.643 0.83785 0.64393 0.83004 0.64647 C 0.81546 0.65156 0.804 0.65711 0.78889 0.65942 C 0.77778 0.66289 0.76719 0.67029 0.75539 0.67214 C 0.74862 0.67306 0.74185 0.67306 0.7349 0.67398 C 0.73108 0.67468 0.72744 0.6756 0.72379 0.67607 C 0.70174 0.68647 0.71754 0.68023 0.67448 0.68254 C 0.65157 0.68763 0.63004 0.69803 0.60782 0.70381 C 0.58855 0.70266 0.57171 0.70335 0.55382 0.69757 C 0.52969 0.68115 0.49775 0.6793 0.47136 0.67607 C 0.46233 0.67214 0.45365 0.66844 0.44428 0.66566 C 0.43212 0.65479 0.41737 0.65294 0.40313 0.65109 C 0.39046 0.64578 0.37761 0.63884 0.36494 0.63422 C 0.34462 0.62659 0.3231 0.62381 0.30296 0.61479 C 0.30157 0.61294 0.29966 0.61109 0.2981 0.60878 C 0.29705 0.60647 0.29636 0.60416 0.29497 0.60231 C 0.29219 0.59792 0.2856 0.58959 0.2856 0.58959 C 0.28178 0.5741 0.27848 0.56647 0.26823 0.55792 C 0.26164 0.54543 0.26875 0.55745 0.25851 0.54543 C 0.2474 0.53179 0.23698 0.5163 0.22987 0.49872 C 0.22605 0.47815 0.21702 0.47953 0.20625 0.46913 C 0.20296 0.46589 0.19983 0.46219 0.19671 0.45849 C 0.19237 0.4541 0.18299 0.43792 0.18091 0.43121 C 0.17848 0.42358 0.17813 0.41711 0.17448 0.40994 C 0.17066 0.37433 0.17414 0.40948 0.17136 0.34011 C 0.17014 0.31075 0.17084 0.30451 0.1507 0.29595 C 0.13959 0.29826 0.14445 0.2978 0.13646 0.2978 E">
                                      <p:cBhvr>
                                        <p:cTn id="78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1757 0.00382 0.03167 0.00625 0.04855 C 0.00851 0.08485 0.01146 0.11583 0.02518 0.14774 C 0.02796 0.16855 0.03733 0.19005 0.04445 0.20925 C 0.04844 0.21988 0.04914 0.23468 0.05382 0.24508 C 0.05521 0.24832 0.06216 0.2541 0.06337 0.25549 C 0.08577 0.2541 0.10851 0.25248 0.13004 0.243 C 0.13681 0.24 0.14428 0.23722 0.1507 0.23237 C 0.18004 0.20971 0.16077 0.21572 0.18091 0.21133 C 0.19046 0.20485 0.19862 0.19745 0.20782 0.19005 C 0.21528 0.1778 0.21737 0.16948 0.22049 0.15422 C 0.2132 0.09803 0.21858 0.12971 0.20157 0.05896 C 0.19792 0.04393 0.1816 0.01433 0.17605 0.00208 C 0.16077 -0.03307 0.14688 -0.07191 0.13803 -0.11006 C 0.13594 -0.13734 0.13178 -0.17711 0.12379 -0.20301 C 0.12101 -0.21156 0.11789 -0.21966 0.1158 -0.22844 C 0.1132 -0.22336 0.11025 -0.21873 0.10782 -0.21365 C 0.10122 -0.19977 0.1073 -0.21064 0.10313 -0.19677 C 0.10191 -0.1933 0.09653 -0.18428 0.09514 -0.18197 C 0.0915 -0.16255 0.08612 -0.14497 0.08403 -0.12486 C 0.0849 -0.0726 0.08125 -0.04417 0.09358 -0.00208 C 0.0941 0.00208 0.0941 0.00647 0.09514 0.0104 C 0.10226 0.03699 0.11094 0.03283 0.13004 0.03792 C 0.20313 0.03537 0.27448 0.03144 0.34757 0.02728 C 0.37136 0.02451 0.39532 0.02173 0.41893 0.01688 C 0.43004 0.01433 0.45209 0.0104 0.45209 0.0104 C 0.49132 0.01341 0.5257 0.01549 0.56667 0.01688 C 0.58299 0.02404 0.57605 0.0215 0.58716 0.0252 C 0.59428 0.03098 0.59966 0.03722 0.60782 0.04 C 0.61598 0.04555 0.62448 0.05202 0.63334 0.05479 C 0.64775 0.06982 0.66198 0.0837 0.67292 0.10335 C 0.67587 0.11607 0.68369 0.12578 0.68889 0.13734 C 0.70157 0.16647 0.71511 0.19214 0.7316 0.21757 C 0.74063 0.23121 0.74671 0.24763 0.76025 0.25364 C 0.7691 0.23514 0.77327 0.21318 0.78091 0.19445 C 0.7875 0.17757 0.79653 0.16393 0.80157 0.14566 C 0.8066 0.12809 0.81025 0.11167 0.81737 0.09503 C 0.81893 0.08716 0.82014 0.0793 0.82223 0.07167 C 0.82431 0.06451 0.82813 0.0578 0.83004 0.05063 C 0.83334 0.03745 0.83803 0.0104 0.83803 0.0104 C 0.8415 -0.04255 0.83994 -0.02058 0.84271 -0.05526 C 0.84237 -0.06266 0.84653 -0.11052 0.82848 -0.11422 C 0.82014 -0.11584 0.81146 -0.11561 0.80296 -0.1163 C 0.77674 -0.12602 0.74948 -0.12948 0.72223 -0.13318 C 0.70157 -0.13156 0.68056 -0.13272 0.66007 -0.12694 C 0.63646 -0.12023 0.61112 -0.10266 0.59046 -0.08671 C 0.58021 -0.07099 0.56893 -0.05573 0.56025 -0.03815 C 0.5566 -0.01734 0.55087 0.00231 0.5474 0.02312 C 0.54132 0.06127 0.53803 0.10011 0.52848 0.13734 C 0.52605 0.1704 0.52483 0.1778 0.52848 0.21988 C 0.529 0.22659 0.53143 0.2326 0.53316 0.23884 C 0.55209 0.30497 0.60313 0.29294 0.64757 0.29595 C 0.68021 0.30451 0.68421 0.33849 0.70313 0.36786 C 0.71511 0.38659 0.72813 0.40531 0.74115 0.42266 C 0.74983 0.43398 0.76181 0.44023 0.77119 0.44994 C 0.78056 0.45942 0.78941 0.47075 0.8 0.47768 C 0.80851 0.49318 0.80278 0.48439 0.82049 0.50312 C 0.83507 0.51861 0.85139 0.54173 0.8698 0.54959 C 0.87257 0.56046 0.87344 0.56971 0.87448 0.58104 C 0.87257 0.60647 0.87448 0.5956 0.8698 0.61479 C 0.86893 0.61826 0.86667 0.62057 0.86494 0.62335 C 0.86146 0.6289 0.85851 0.63514 0.85382 0.63838 C 0.84653 0.643 0.83785 0.64393 0.83004 0.64647 C 0.81546 0.65156 0.804 0.65711 0.78889 0.65942 C 0.77778 0.66289 0.76719 0.67029 0.75539 0.67214 C 0.74862 0.67306 0.74185 0.67306 0.7349 0.67398 C 0.73108 0.67468 0.72744 0.6756 0.72379 0.67607 C 0.70174 0.68647 0.71754 0.68023 0.67448 0.68254 C 0.65157 0.68763 0.63004 0.69803 0.60782 0.70381 C 0.58855 0.70266 0.57171 0.70335 0.55382 0.69757 C 0.52969 0.68115 0.49775 0.6793 0.47136 0.67607 C 0.46233 0.67214 0.45365 0.66844 0.44428 0.66566 C 0.43212 0.65479 0.41737 0.65294 0.40313 0.65109 C 0.39046 0.64578 0.37761 0.63884 0.36494 0.63422 C 0.34462 0.62659 0.3231 0.62381 0.30296 0.61479 C 0.30157 0.61294 0.29966 0.61109 0.2981 0.60878 C 0.29705 0.60647 0.29636 0.60416 0.29497 0.60231 C 0.29219 0.59792 0.2856 0.58959 0.2856 0.58959 C 0.28178 0.5741 0.27848 0.56647 0.26823 0.55792 C 0.26164 0.54543 0.26875 0.55745 0.25851 0.54543 C 0.2474 0.53179 0.23698 0.5163 0.22987 0.49872 C 0.22605 0.47815 0.21702 0.47953 0.20625 0.46913 C 0.20296 0.46589 0.19983 0.46219 0.19671 0.45849 C 0.19237 0.4541 0.18299 0.43792 0.18091 0.43121 C 0.17848 0.42358 0.17813 0.41711 0.17448 0.40994 C 0.17066 0.37433 0.17414 0.40948 0.17136 0.34011 C 0.17014 0.31075 0.17084 0.30451 0.1507 0.29595 C 0.13959 0.29826 0.14445 0.2978 0.13646 0.2978 E">
                                      <p:cBhvr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1757 0.00382 0.03167 0.00625 0.04855 C 0.00851 0.08485 0.01146 0.11583 0.02518 0.14774 C 0.02796 0.16855 0.03733 0.19005 0.04445 0.20925 C 0.04844 0.21988 0.04914 0.23468 0.05382 0.24508 C 0.05521 0.24832 0.06216 0.2541 0.06337 0.25549 C 0.08577 0.2541 0.10851 0.25248 0.13004 0.243 C 0.13681 0.24 0.14428 0.23722 0.1507 0.23237 C 0.18004 0.20971 0.16077 0.21572 0.18091 0.21133 C 0.19046 0.20485 0.19862 0.19745 0.20782 0.19005 C 0.21528 0.1778 0.21737 0.16948 0.22049 0.15422 C 0.2132 0.09803 0.21858 0.12971 0.20157 0.05896 C 0.19792 0.04393 0.1816 0.01433 0.17605 0.00208 C 0.16077 -0.03307 0.14688 -0.07191 0.13803 -0.11006 C 0.13594 -0.13734 0.13178 -0.17711 0.12379 -0.20301 C 0.12101 -0.21156 0.11789 -0.21966 0.1158 -0.22844 C 0.1132 -0.22336 0.11025 -0.21873 0.10782 -0.21365 C 0.10122 -0.19977 0.1073 -0.21064 0.10313 -0.19677 C 0.10191 -0.1933 0.09653 -0.18428 0.09514 -0.18197 C 0.0915 -0.16255 0.08612 -0.14497 0.08403 -0.12486 C 0.0849 -0.0726 0.08125 -0.04417 0.09358 -0.00208 C 0.0941 0.00208 0.0941 0.00647 0.09514 0.0104 C 0.10226 0.03699 0.11094 0.03283 0.13004 0.03792 C 0.20313 0.03537 0.27448 0.03144 0.34757 0.02728 C 0.37136 0.02451 0.39532 0.02173 0.41893 0.01688 C 0.43004 0.01433 0.45209 0.0104 0.45209 0.0104 C 0.49132 0.01341 0.5257 0.01549 0.56667 0.01688 C 0.58299 0.02404 0.57605 0.0215 0.58716 0.0252 C 0.59428 0.03098 0.59966 0.03722 0.60782 0.04 C 0.61598 0.04555 0.62448 0.05202 0.63334 0.05479 C 0.64775 0.06982 0.66198 0.0837 0.67292 0.10335 C 0.67587 0.11607 0.68369 0.12578 0.68889 0.13734 C 0.70157 0.16647 0.71511 0.19214 0.7316 0.21757 C 0.74063 0.23121 0.74671 0.24763 0.76025 0.25364 C 0.7691 0.23514 0.77327 0.21318 0.78091 0.19445 C 0.7875 0.17757 0.79653 0.16393 0.80157 0.14566 C 0.8066 0.12809 0.81025 0.11167 0.81737 0.09503 C 0.81893 0.08716 0.82014 0.0793 0.82223 0.07167 C 0.82431 0.06451 0.82813 0.0578 0.83004 0.05063 C 0.83334 0.03745 0.83803 0.0104 0.83803 0.0104 C 0.8415 -0.04255 0.83994 -0.02058 0.84271 -0.05526 C 0.84237 -0.06266 0.84653 -0.11052 0.82848 -0.11422 C 0.82014 -0.11584 0.81146 -0.11561 0.80296 -0.1163 C 0.77674 -0.12602 0.74948 -0.12948 0.72223 -0.13318 C 0.70157 -0.13156 0.68056 -0.13272 0.66007 -0.12694 C 0.63646 -0.12023 0.61112 -0.10266 0.59046 -0.08671 C 0.58021 -0.07099 0.56893 -0.05573 0.56025 -0.03815 C 0.5566 -0.01734 0.55087 0.00231 0.5474 0.02312 C 0.54132 0.06127 0.53803 0.10011 0.52848 0.13734 C 0.52605 0.1704 0.52483 0.1778 0.52848 0.21988 C 0.529 0.22659 0.53143 0.2326 0.53316 0.23884 C 0.55209 0.30497 0.60313 0.29294 0.64757 0.29595 C 0.68021 0.30451 0.68421 0.33849 0.70313 0.36786 C 0.71511 0.38659 0.72813 0.40531 0.74115 0.42266 C 0.74983 0.43398 0.76181 0.44023 0.77119 0.44994 C 0.78056 0.45942 0.78941 0.47075 0.8 0.47768 C 0.80851 0.49318 0.80278 0.48439 0.82049 0.50312 C 0.83507 0.51861 0.85139 0.54173 0.8698 0.54959 C 0.87257 0.56046 0.87344 0.56971 0.87448 0.58104 C 0.87257 0.60647 0.87448 0.5956 0.8698 0.61479 C 0.86893 0.61826 0.86667 0.62057 0.86494 0.62335 C 0.86146 0.6289 0.85851 0.63514 0.85382 0.63838 C 0.84653 0.643 0.83785 0.64393 0.83004 0.64647 C 0.81546 0.65156 0.804 0.65711 0.78889 0.65942 C 0.77778 0.66289 0.76719 0.67029 0.75539 0.67214 C 0.74862 0.67306 0.74185 0.67306 0.7349 0.67398 C 0.73108 0.67468 0.72744 0.6756 0.72379 0.67607 C 0.70174 0.68647 0.71754 0.68023 0.67448 0.68254 C 0.65157 0.68763 0.63004 0.69803 0.60782 0.70381 C 0.58855 0.70266 0.57171 0.70335 0.55382 0.69757 C 0.52969 0.68115 0.49775 0.6793 0.47136 0.67607 C 0.46233 0.67214 0.45365 0.66844 0.44428 0.66566 C 0.43212 0.65479 0.41737 0.65294 0.40313 0.65109 C 0.39046 0.64578 0.37761 0.63884 0.36494 0.63422 C 0.34462 0.62659 0.3231 0.62381 0.30296 0.61479 C 0.30157 0.61294 0.29966 0.61109 0.2981 0.60878 C 0.29705 0.60647 0.29636 0.60416 0.29497 0.60231 C 0.29219 0.59792 0.2856 0.58959 0.2856 0.58959 C 0.28178 0.5741 0.27848 0.56647 0.26823 0.55792 C 0.26164 0.54543 0.26875 0.55745 0.25851 0.54543 C 0.2474 0.53179 0.23698 0.5163 0.22987 0.49872 C 0.22605 0.47815 0.21702 0.47953 0.20625 0.46913 C 0.20296 0.46589 0.19983 0.46219 0.19671 0.45849 C 0.19237 0.4541 0.18299 0.43792 0.18091 0.43121 C 0.17848 0.42358 0.17813 0.41711 0.17448 0.40994 C 0.17066 0.37433 0.17414 0.40948 0.17136 0.34011 C 0.17014 0.31075 0.17084 0.30451 0.1507 0.29595 C 0.13959 0.29826 0.14445 0.2978 0.13646 0.2978 E">
                                      <p:cBhvr>
                                        <p:cTn id="82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0:47Z</dcterms:created>
  <dc:creator>install</dc:creator>
  <dc:description/>
  <dc:language>en-US</dc:language>
  <cp:lastModifiedBy>install</cp:lastModifiedBy>
  <dcterms:modified xsi:type="dcterms:W3CDTF">2011-03-16T15:55:56Z</dcterms:modified>
  <cp:revision>8</cp:revision>
  <dc:subject/>
  <dc:title>Slide 1</dc:title>
</cp:coreProperties>
</file>